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11C-D5A2-4B06-994C-E95F9EB4A18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ology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本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93C-C670-481E-8013-626ECA60A32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ADA-7354-42D9-A254-7B9557B8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83B-CF80-4092-9215-7A39D47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139-31CB-48AE-BCFE-5A75F13B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4B5-1288-4D18-A764-9438B2A8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79F-84A5-4BDB-80D9-91281D7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266-34F6-4577-A8CD-3264533A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605-994D-4717-BF5F-6172663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5C5-9367-4668-86DD-D60E3DD8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0CA-F829-409B-8C18-11873EF7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F03-F8AE-4B59-AC5A-C1888B8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21C-34B5-44D4-9327-F5774BA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D24-F987-46C1-BE1F-7405D00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920-D508-4CC7-8D02-B78FCBD2172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o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Language L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: Journe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0040" y="928800"/>
          <a:ext cx="5786640" cy="550044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ou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er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hic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ing with common destination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ehicle encounters some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edime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get stuck. If the travelers do nothing, they will not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 their destination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a limited alternatives for actions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the vehicle moving agai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ither by fixing it or getting it past the impedim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vehicle and give up reaching their destination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n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vehicle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內容版面配置區 2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: Lo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071720"/>
          <a:ext cx="6043680" cy="5379840"/>
        </p:xfrm>
        <a:graphic>
          <a:graphicData uri="http://schemas.openxmlformats.org/drawingml/2006/table">
            <a:tbl>
              <a:tblPr/>
              <a:tblGrid>
                <a:gridCol w="604368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v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r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 relationship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ursuing common life goal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ationship encounters some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ficult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which makes it nonfunctional. If they do nothing, they will not be able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hieve their life goal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limited alternatives for action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it moving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by fixing it or getting it past the difficulty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relationship and give up on achieving their life goal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relationship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內容版面配置區 2"/>
          <p:cNvSpPr/>
          <p:nvPr/>
        </p:nvSpPr>
        <p:spPr>
          <a:xfrm>
            <a:off x="35712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57120" y="428760"/>
          <a:ext cx="4286160" cy="600048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ou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er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hic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ing with common destinatio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ehicle encounters some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edi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get stuck. If the travelers do nothing, they will not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 their destinatio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a limited alternatives for actions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the vehicle moving agai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ither by fixing it or getting it past the impedi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vehicle and give up reaching their destination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n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vehicle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3280" y="428760"/>
          <a:ext cx="4286520" cy="6027480"/>
        </p:xfrm>
        <a:graphic>
          <a:graphicData uri="http://schemas.openxmlformats.org/drawingml/2006/table">
            <a:tbl>
              <a:tblPr/>
              <a:tblGrid>
                <a:gridCol w="42865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 relationshi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ursuing common life goa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ationship encounters some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ficul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which makes it nonfunctional. If they do nothing, they will not be able t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hieve their life goa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limited alternatives for a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it moving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by fixing it or getting it past the difficul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relationship and give up on achieving their life goa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relationship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內容版面配置區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understand the following sentences now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2800" spc="-1" strike="noStrike">
                <a:solidFill>
                  <a:srgbClr val="009900"/>
                </a:solidFill>
                <a:latin typeface="Calibri"/>
              </a:rPr>
              <a:t>Love is a journ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how far we’ve c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be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 long, bumpy ro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’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urn 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lationship is a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ead-end stre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pin our whe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vercome th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ve gott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off the tr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rriage i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on the roc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may have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ail ou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relationshi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esn’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o anywh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 for the sentence “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full of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money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a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aracteristics of mon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relationship btw MONEY and a PERS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圓角化對角線角落矩形 6"/>
          <p:cNvSpPr/>
          <p:nvPr/>
        </p:nvSpPr>
        <p:spPr>
          <a:xfrm>
            <a:off x="5500800" y="3857760"/>
            <a:ext cx="1357200" cy="642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圓角化對角線角落矩形 7"/>
          <p:cNvSpPr/>
          <p:nvPr/>
        </p:nvSpPr>
        <p:spPr>
          <a:xfrm>
            <a:off x="857160" y="4357800"/>
            <a:ext cx="1357560" cy="642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8"/>
          <p:cNvSpPr/>
          <p:nvPr/>
        </p:nvSpPr>
        <p:spPr>
          <a:xfrm>
            <a:off x="535788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rge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9"/>
          <p:cNvSpPr/>
          <p:nvPr/>
        </p:nvSpPr>
        <p:spPr>
          <a:xfrm>
            <a:off x="785880" y="5072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rc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Metaphor to Show Emo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metaphorical expressions used in this article. Circle those express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ategorize source domains used to describe the concep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ge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make my bloo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mm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m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got al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eamed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reach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火冒三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憋了一肚子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心中的怒氣終於爆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脾氣很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怒氣沖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字版面配置區 7"/>
          <p:cNvSpPr/>
          <p:nvPr/>
        </p:nvSpPr>
        <p:spPr>
          <a:xfrm>
            <a:off x="500040" y="5143680"/>
            <a:ext cx="404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ER IS THE HEAT OF A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FLU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A CONTAI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版面配置區 7"/>
          <p:cNvSpPr/>
          <p:nvPr/>
        </p:nvSpPr>
        <p:spPr>
          <a:xfrm>
            <a:off x="4643280" y="52894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ER IS THE HOT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G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A CONTA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HEATED FLUI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T G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ainer is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at of fluid/gas is the 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container is internal pressure in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GER IS HE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9900"/>
                </a:solidFill>
                <a:latin typeface="Vivaldi"/>
              </a:rPr>
              <a:t>Shall I compare you to a summer's day?</a:t>
            </a:r>
            <a:br>
              <a:rPr sz="2700"/>
            </a:br>
            <a:r>
              <a:rPr b="0" i="1" lang="en-US" sz="2700" spc="-1" strike="noStrike">
                <a:solidFill>
                  <a:srgbClr val="009900"/>
                </a:solidFill>
                <a:latin typeface="Vivaldi"/>
              </a:rPr>
              <a:t>You are more lovely and more constant</a:t>
            </a:r>
            <a:r>
              <a:rPr b="0" lang="en-US" sz="2700" spc="-1" strike="noStrike">
                <a:solidFill>
                  <a:srgbClr val="009900"/>
                </a:solidFill>
                <a:latin typeface="Vivald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Rough winds shake the beloved buds of Ma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nd summer is far too short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t times the sun is too hot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Or often goes behind the clouds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nd everything beautiful sometime will lose its beauty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y misfortune or by nature's planned out cours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ut your youth shall not fade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Nor will you lose the beauty that you possess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Nor will death claim you for his own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ecause in my eternal verse you will live forever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So long as there are people on this earth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So long will this poem live on, making you immort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lliam Shakespeare, Sonnet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ping for ANGER IS HEATED FLUID IN THE CONTAI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ge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lamma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ma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eathing f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insincere apology ju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dded fuel to the f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dl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y i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y, am I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rned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o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s pouring out of his 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別惹我發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這麼做是在火上加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大動肝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壓不住心頭怒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火冒三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七竅生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e is a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use of the fire is the cause of the a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umed object is the angry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GER IS FI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ping for ANGER IS FI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2714760"/>
          <a:ext cx="8215200" cy="172224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n experience of being very angry? Please describe the experience. Show your anger as much and vivid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etaph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ld-day definition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ove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etic linguistic expres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one or more words for a concept are used outside of their normal conventional meaning to express a similar concep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mporary definition: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ceptual mechanis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which we understand and structure one domain of experience in terms of another domain of a different ki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language of though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the way we conceptualize one mental domain in terms of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ross-domain mapp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onceptual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s between difference domains are constructed based on people’s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ceptions of daily life experi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our everyday behavior reflects our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etaphorical understanding of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ypes of Metaphor can be Used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onymy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轉喻用法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gure of speech in which one word or phras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s substitu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nother with which it is closely associ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is just a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pretty fac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 pen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mightier than the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sword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full of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money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e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直喻用法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明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gure of speech in which two fundamentally unlike things are explicitly compared, usually in a phrase introduced by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sun was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like a glowing b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of fir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My love is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like a red, red ros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4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phorical expression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隱喻用法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also offer figurative comparisons, but these a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mpli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ther than introduc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rushes toward us with its hospital tray of infinitely varied narcotics, even while it is preparing us for its inevitably fatal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ennessee Williams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Think of a Metaph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phorical mapp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Love is a 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Loo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far we’ve c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t the crossro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can’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urn bac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may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our separate 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This relationship isn’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any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il 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relationshi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51:20Z</dcterms:created>
  <dc:creator>Windows 使用者</dc:creator>
  <dc:description/>
  <dc:language>en-US</dc:language>
  <cp:lastModifiedBy>teacher</cp:lastModifiedBy>
  <dcterms:modified xsi:type="dcterms:W3CDTF">2009-04-20T08:20:25Z</dcterms:modified>
  <cp:revision>75</cp:revision>
  <dc:subject/>
  <dc:title>投影片 1</dc:title>
</cp:coreProperties>
</file>